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166-62BD-418A-8A96-30797435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106-299B-4272-8B18-CEA132EA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6EC-D0CE-4532-8D98-F12113F4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2B4-C60F-4363-A3E7-12AD02731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6CB3-0E79-41B2-8B49-5E4F9ADC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C6FE-7133-4AAF-8437-4DB67913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DF0-1B4B-45AA-A5DC-D5E838428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F116-7727-4885-A23B-A1ED5673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C7C-1A8D-4D6E-9E17-F33A00CA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CE10-0E1C-42FD-BA9B-1316E959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3F36-EB52-4EEE-A25F-ACD46C19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11AA-D59B-4407-A9D7-D3F16A81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CB813-6622-41CD-AF83-F7EE3CB3D46C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69696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149720"/>
            <a:ext cx="471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Si 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v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 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e demandez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pas, 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 </a:t>
            </a: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ahoma"/>
              </a:rPr>
              <a:t>      </a:t>
            </a:r>
            <a:r>
              <a:rPr b="0" lang="ro-RO" sz="2400" spc="-1" strike="noStrike">
                <a:solidFill>
                  <a:srgbClr val="bbe0e3"/>
                </a:solidFill>
                <a:latin typeface="Tahoma"/>
              </a:rPr>
              <a:t>maintenant vous savez .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32360" cy="3699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932360" y="2646360"/>
            <a:ext cx="4211640" cy="4211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48360" y="189000"/>
            <a:ext cx="399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a vie fran</a:t>
            </a:r>
            <a:r>
              <a:rPr b="0" lang="ro-RO" sz="2400" spc="-1" strike="noStrike">
                <a:solidFill>
                  <a:srgbClr val="bbe0e3"/>
                </a:solidFill>
                <a:latin typeface="Arial"/>
              </a:rPr>
              <a:t>çaise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ves-vous deman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sur la vie en Fra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3a57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5640" y="54936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   </a:t>
            </a:r>
            <a:r>
              <a:rPr b="1" i="1" lang="en-US" sz="2400" spc="-1" strike="noStrike">
                <a:solidFill>
                  <a:srgbClr val="000000"/>
                </a:solidFill>
                <a:latin typeface="Berlin Sans FB"/>
              </a:rPr>
              <a:t>La nourriture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773360"/>
            <a:ext cx="817236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Eras Medium ITC"/>
              </a:rPr>
              <a:t>Le petit-dejuner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Vous savez que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Les francais mangent au petit dejuner quelque chose doux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Ils mangent du croissants, des tartes, peut ils boivent une caffe ou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un verre  du j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Pour le francais les, est tres important a prennent la repas dans l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Eras Medium ITC"/>
              </a:rPr>
              <a:t>heurre fix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3213000"/>
            <a:ext cx="1633680" cy="2438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50000">
              <a:srgbClr val="686868"/>
            </a:gs>
            <a:gs pos="100000">
              <a:srgbClr val="ddddd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11280" y="9079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erlin Sans FB"/>
              </a:rPr>
              <a:t>Le deju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651640" y="189000"/>
            <a:ext cx="2881080" cy="1927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11280" y="1557360"/>
            <a:ext cx="460836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 dejuner, les francais, mangent d’abord un salle, generalment froid,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qui peut êtr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foie gras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ou une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sala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e.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res cette ils mangent du nourriture effec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 salle, les francais </a:t>
            </a:r>
            <a:r>
              <a:rPr b="0" lang="ro-RO" sz="1800" spc="-1" strike="noStrike">
                <a:solidFill>
                  <a:srgbClr val="000000"/>
                </a:solidFill>
                <a:latin typeface="Comic Sans MS"/>
              </a:rPr>
              <a:t>ne refuse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t pas le v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ls aiment beacoup le vin rou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s francais qui se respecte, ils ont au moins des deux types de froma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ur le desert, ils mangent du fruits, du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ateu, de la t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651640" y="2421000"/>
            <a:ext cx="2950920" cy="19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7380360" y="4797360"/>
            <a:ext cx="1265040" cy="18892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5229360"/>
            <a:ext cx="2233440" cy="1493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00"/>
            </a:gs>
            <a:gs pos="100000">
              <a:srgbClr val="7a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476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ravailler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1700280"/>
            <a:ext cx="7343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s francais, travaillent minimum 7 heurs par jour et maximum 10 heurs par jour. Ils ont le droit a une pause par jour de 20 minutes, si ils travaillent 6 heurs par j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3213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alaire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26920" y="393372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uis le jour de 1 julliet 2009 le salaire minimum est de 1337.70 Euro en Brut, et 1050,63 Euro NET pour 35 d’heures travaile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987640" y="5130720"/>
            <a:ext cx="3024360" cy="17272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308720" y="3213000"/>
            <a:ext cx="1366920" cy="13669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627280" y="3716280"/>
            <a:ext cx="3959280" cy="2841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55640" y="620640"/>
            <a:ext cx="4537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 television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us savez qu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principale television dans la France est TV5 Monde. TV5 Monde est une television francophone intern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d0fe"/>
            </a:gs>
            <a:gs pos="50000">
              <a:srgbClr val="0099ff"/>
            </a:gs>
            <a:gs pos="100000">
              <a:srgbClr val="8dd0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332000" y="260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 musique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71640" y="1341360"/>
            <a:ext cx="676908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France á de nombreux artistes de rennomeé intarnation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us avez ici certains chansons qui sont entre dans l’histoire de Fra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dith Piat- Non, je ne regret r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acques Brel- Ne me quitte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phie Milman- La vie en r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oe Dassin- Et si tu n’existais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ricia Kaas- Mademoiselle chante le b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f5f5f"/>
            </a:gs>
            <a:gs pos="50000">
              <a:srgbClr val="bcbcbc"/>
            </a:gs>
            <a:gs pos="100000">
              <a:srgbClr val="5f5f5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4360" y="33336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ort e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1341360"/>
            <a:ext cx="8459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principale competiton sportive dans la France est le Tour de France. Est un competition de cyclisme, de renommee internationale, qui se faite en chaque anée. Le tour de France a ete organise pour la premiere fois en 19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ns la Tour de France, cyclistes doit passer pas 3.600 K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84360" y="3562200"/>
            <a:ext cx="4608720" cy="32958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002f46"/>
            </a:gs>
            <a:gs pos="100000">
              <a:srgbClr val="00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’ecole dans la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1197000"/>
            <a:ext cx="7274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s eleves vont a l’ecole primare a 6-7 ans. L’ecole primare durent 5 ans et les eleves apprennent a lire et a ecrire. Dans l’ecole primare les eleves ont un enseignant.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’education secondaire dans la France est divises en 2 parties: Le college entre les ages 11-15 ans et le lycee entre les ages 15-18 ans. Les etudes se termine avec l’exam de </a:t>
            </a:r>
            <a:r>
              <a:rPr b="0" lang="ro-RO" sz="2400" spc="-1" strike="noStrike">
                <a:solidFill>
                  <a:srgbClr val="ffffff"/>
                </a:solidFill>
                <a:latin typeface="Calibri"/>
              </a:rPr>
              <a:t>baccalauréat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en versione francaise. 30% dentre les etudants echouent a cet exa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Vous savez que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n France les eleves ne ont pas l’autorise pour venir a l’ecole avec les telephones mo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7T19:04:56Z</dcterms:created>
  <dc:creator>xXennon</dc:creator>
  <dc:description/>
  <dc:language>en-US</dc:language>
  <cp:lastModifiedBy>xXennon</cp:lastModifiedBy>
  <dcterms:modified xsi:type="dcterms:W3CDTF">2012-05-08T09:16:22Z</dcterms:modified>
  <cp:revision>5</cp:revision>
  <dc:subject/>
  <dc:title>Slide 1</dc:title>
</cp:coreProperties>
</file>